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C56B-F089-4FE2-93EF-DE2268C00A6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F3A-405B-42E5-A2AA-8522DD4DCA1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3585-E289-4C7B-9D1C-D23656B5FE7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A1DF-E1C3-46AB-B8C6-F03599475CD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6AE-30DF-492A-8197-D14B7B51913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27D-4E66-40E3-A199-C4D5DCFAC9D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EDA-FF42-4978-876F-3E9453B6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D6C-94C1-48C9-8234-F37B711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0E0-E6E6-4ABE-B3E6-FF860DFD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432-3194-4F99-BE3B-6D5CEDC2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FDF-087F-40AF-A23A-46904B29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2F8-C5AA-47E0-8763-40827B9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3A5E-8777-46B7-9A87-4B63F934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9F1-ECA0-41D0-B913-4B706D41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A071-BF79-42D8-9A23-ECE4CA1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5F45-323E-48C0-AE6E-10E4BE29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8261-FF6A-47BF-A65D-8D36321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388-A3EB-4B66-B3BA-F2E1D58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4C0-2887-4329-97CD-78B0353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869-5E37-44E0-B4C2-2ADEF15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B24-8A52-4BA9-8562-1BD1343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165C-663C-4557-9886-1015C63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B79-EF91-44CE-914D-808275AB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FB55-98CD-4394-AD84-C38DEC9A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DBF6-D64A-4382-A65F-E6FF5E65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19F8-92CB-4419-BFB7-B6F33A98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60B5-9A84-47C1-9966-D55FF541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8409-D742-4579-8950-75A8D7E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B2C-756B-43A8-B478-A1F2EFED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7C25-4D57-4665-BE5C-88F41B85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233A-EF1A-40A1-8B5D-CECDE61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B6CC-943B-4220-B100-97334F2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B916-EC56-4637-8BC7-03A6E09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28EE-3397-48C0-AE13-2544D20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996B-635A-40C0-A1A8-E6907E30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99C4-E652-41D0-BD14-905A5075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584A-364C-4037-91D7-F5FD21D3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D0D3-1EEC-4F7E-9531-6C2F1C0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A762-4D35-48FC-9476-4F971463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C9C-91CB-4CA1-879D-131BC59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03F9-AF3A-491D-9CC7-2726DB2A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1658-5C0A-4D3B-B72E-8D42FA8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3EE7-91A9-4AF2-98D4-D008FA0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7DA4-DFE7-4A11-A7F6-51D5CCE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C9D2-5045-4165-87EF-A367E76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A17A-748F-4571-83C8-0E7BFB1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8E4E-160E-4714-9A59-07626AD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82FB-BC37-407E-AB54-1613E46F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B17B-0C9F-423F-B0D5-1A0BEF89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B62C-2EB6-4487-94EE-A1007C0A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6AE-83B5-4EF1-8A6A-458269B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FA0D-AE7E-4E71-BB6D-0F76DA8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A6AF-A217-4A85-8CCE-9A97116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7AEE-72B2-4186-8C25-D482BC1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63D2-FB78-4996-AA72-02C78CBD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5502-FDFA-4BC8-B7F2-99B1A78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6679-AADB-4A7D-9750-903AC2F7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E438-8151-4397-B0C2-6F507C3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EB52-F19F-4066-ABEE-D267925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05AC-169B-45AA-8180-CCB3568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D66A-5004-4D4E-A3DA-D647EA0D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9C2-799C-46D9-B819-6D574D22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82799-9425-46D2-9B77-A70BE9A3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24D4-8D62-4C0B-9EA8-586F70BE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ADA2B-AB2D-4748-AE1F-2516E90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FAD9-FB15-4B2D-A700-B7A0972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6A29-A123-469C-A114-BC9AE38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9D8C-C935-4463-93A2-6516DD92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5738-2E72-46CB-AC01-7D71BD5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84A1-E260-4975-83F6-DC39EC6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6819-A6E6-4069-976D-E255C04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DD9B-01C1-4C35-BBAF-733957D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238-6CCB-4659-966B-B6109930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9D75-DDEE-4EB3-B930-B542A473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BD59-7AC5-4D4D-B39F-080E580A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D1E1-E430-487E-8F65-747F04AD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669D-9217-4B27-B85B-8E06BD31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E04E-7A9C-44D0-A7E8-80417C57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B5C8-AC10-4163-9568-91FF2B2D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CED27-F35F-4210-9E35-6B31C3C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075CA-7238-4545-9E6E-123F6A3F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062B-D921-4F1C-AE2E-382CF8E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104F3-29C0-4CC4-ADCC-825A458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133-A6A8-4E2E-832C-E627379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F9EDC-E4CC-47A0-975C-8AF3AB1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2D749-2B0E-4055-8F60-C998F9F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1975E-4678-4C48-88AF-E410335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D84D-9272-4179-BF1D-7AD12AFB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D9E7-C63B-4D76-8057-A77F1484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9A9D-DF84-4A56-8687-901DE226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B4D7B-2F35-4905-AFA4-1FACEE5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F20C-A33D-4E2C-86B2-37BB5D3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40A5-7C6A-41E3-9F04-40C3A5C4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B5FA-DAC0-4680-BF24-A13CF35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7D9-08F9-44B8-81F1-03B2627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F27C-CC7C-419D-8777-78E2CA6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7AEB-746A-4AE7-9888-AB5DB00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DD36-84DA-4EE6-8DFB-DAA4E40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A99D-9EB6-4B6C-9C6B-8EC1A55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E0B10-6721-4B28-A019-6BCD108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A481-FAE0-46CE-9C1B-5FB592C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8A5A5-4248-4BE8-9DDC-87BA2AED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Suorakulmainen kolmi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uora yhdysviiv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1DC1-21BD-41EB-94C7-03C6179BC586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ainen kolmi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Ryhmä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uolivapaa piirto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Puolivapaa piirto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Puolivapaa piirt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Puolivapaa piirto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uora yhdysviiv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395-85EF-4B5E-9153-E5C90B9DAA48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Lovettu nuolenkärki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Lovettu nuolenkärki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DB0C-2D7B-4C2E-89EF-B2BD1386FB64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AB87-A22D-494E-B178-3B55139E7AF7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E126-553F-4656-ABA2-89F7A87B8698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788A-0FA2-4C88-86A7-1A5C2A3D8B41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99D-1153-4E55-8940-1BC4FD9CB7C9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uolivapaa piirt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uolivapaa piirt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Suorakulmainen kolmi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Suorakulmainen kolmi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uora yhdysviiv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Lovettu nuolenkärki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Lovettu nuolenkärki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0DE-883E-4D30-9025-334033A70B9C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tsikko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7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deiksi kutsutaan kaikkia tauteja, joilla on vaikutuksia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Ne kuluttavat yleensä paljon terveydenhuollon voimavaroja ja aiheuttavat työkyvyttömyyttä, joten niillä on suuri taloudellinen merkit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teihin ovat syynä muun muassa elämäntapa, sisäsiittoisuus, geeniperimä ja saastee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ella tarkoitetaan valtimoissa olevaa painet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pitää veren liikkeess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Pysyvästi kohonnut verenpaine on maamme yleisin terveysrisk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Normaali yläpaino alle 130 ja alipaino alle 8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on koholla, kun yläarvo on 140 tai ala-arvo yli 90 tai näitä korkeampi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ohonnut verenpaine vahingoittaa valtimoita ja aiheuttaa aivohalvauksia ja sydäninfarktej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tta voi jokainen alentaa vähentämällä suolaa ja liikkumalla riittävästi, tupakoitsija lopettamalla ja ylipainoinen laihduttamall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 omat keinot eivät laske verenpainetta riittävästi, tarvitaan verenpainelääkkeitä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Eri puolilla kehoamme solut lisääntyvät jatku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kus solut jakaantuvat  hallitsemattomasti. Jos valkosolut eivät onnistu lopettamaan jakautumista, niistä kasvaa solukasaumia. Näin saa alkunsa kasva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Hyvänlaatuinen kasvain pysähtyy kasvussaan, kun taas pahanlaatuinen kasvain ,eli syöpä, jatkaa kasvuaan ja tunkeutuu eri kudoksi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Syövän yleisin aiheuttaja on tupakka. Myös passiivinen tupakointi lisää syövän riskiä huomatta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Myös ruokavalio ja elämäntavat voivat edesauttaa syövän syntymist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3.33333E-006 C -0.00764 0.01366 -0.01007 0.02986 -0.01667 0.04445 C -0.02049 0.06389 -0.03316 0.07755 -0.04167 0.09352 C -0.04531 0.10023 -0.04687 0.1088 -0.05 0.11574 C -0.05538 0.12778 -0.0625 0.14121 -0.06997 0.15116 C -0.07257 0.16111 -0.07587 0.1588 -0.0783 0.16898 C -0.04201 0.19306 -0.02708 0.17477 0.03333 0.17338 C 0.05608 0.17107 0.06771 0.16945 0.09167 0.1713 C 0.09983 0.1757 0.10469 0.17986 0.11163 0.18681 C 0.10781 0.20348 0.0901 0.2007 0.08003 0.20672 C 0.02865 0.23727 -0.03976 0.23426 -0.0934 0.23565 C -0.10122 0.23912 -0.10885 0.24329 -0.11667 0.24676 C -0.11111 0.21135 -0.06806 0.20255 -0.04826 0.19352 C -0.03281 0.18635 -0.01597 0.18727 -2.77556E-017 0.18241 C 0.03264 0.17246 0.06337 0.16667 0.0967 0.16227 C 0.11615 0.15973 0.1309 0.15672 0.15 0.15116 C 0.15677 0.14931 0.16997 0.14445 0.16997 0.14445 C 0.16059 0.10672 0.17326 0.1544 0.16163 0.12014 C 0.15816 0.10973 0.15642 0.10093 0.15174 0.09121 C 0.15052 0.08449 0.15 0.07778 0.14826 0.0713 C 0.14722 0.06736 0.14531 0.06366 0.1434 0.06019 C 0.14253 0.05834 0.13993 0.05556 0.13993 0.05556 L 0.13507 0.01783 L 0.13003 -0.0243 L 0.00503 0.02454 E">
                                      <p:cBhvr>
                                        <p:cTn id="8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ka toinen meistä kärsii jossain elämänsä vaiheessa allergian aiheuttamista oireist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un ihmisen elimistöön pääsee vieraita aineita, kuten viruksia, bakteereja tai myrkyllisiä aineita, se puolustautuu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sen ihmisen immuunijärjestelmä toimii epätarkoituksenmukaisesti ja elimistö puolustautuu sinänsä harmittomia aineita, kuten siitepölyä tai ruoka-aineita vastaa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a aiheuttavat mm.siitepöly ja eläinten hilse ja jätteet. Myös eri ruuat voivat aiheuttaa allergisia reaktioi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 on yleistymässä, koska ympärillämme on ärsykkeitä aiheuttavia kemikaaleja yhä enemmä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6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40:21Z</dcterms:created>
  <dc:creator>Ritva Tamminen</dc:creator>
  <dc:description/>
  <dc:language>en-US</dc:language>
  <cp:lastModifiedBy>Ritva Tamminen</cp:lastModifiedBy>
  <dcterms:modified xsi:type="dcterms:W3CDTF">2010-02-07T15:05:15Z</dcterms:modified>
  <cp:revision>3</cp:revision>
  <dc:subject/>
  <dc:title>Kansantaudit</dc:title>
</cp:coreProperties>
</file>